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268B-4869-476C-A61E-B7C9278E4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34D7-986A-4ADA-B4DB-DAF2AF81C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89F3-7F38-4C94-86D9-A4F48F83B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D006-5EBA-4FEC-9FF2-E150D6FB4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11BE-C006-401F-8F42-A6608921F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C71A-E94D-44AE-AB4E-724EF6C6E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iness across the curriculum; Has depth and complex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BCAC-5E47-4C76-B9C4-A967E185A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D402-31E3-4F54-A9F7-F6B5C9736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8DE4-F93C-4925-AD44-035E569F2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high levels of effort at low levels of cognitiv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high levels of critical thinking about the wrong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is relative to individual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level with the right stuff!  (Example:  Olympics – gymna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F318-E0C6-417D-97FB-7969E3A8B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Handout.  Distribu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1376-4F3E-4F56-932F-BCD4FE9F4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837C-467C-4A35-AC2B-33E9C0B70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00CF-2D33-4B27-8B48-B95148F9C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50D9-7622-4DE0-A5EF-36D6DCCFA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E2EA-902F-440C-BE68-C88CA65FD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EED9-6090-47FD-86EE-C1CFFB141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3298-F0E2-4C80-AF95-D12DE160E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3B09-D5A7-471E-9942-0F331A4BF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F007-328D-4928-8EB0-B81D3A498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086C-9E59-4A53-BCC2-057EDC0DD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CFE3-0C70-4749-8E4E-7A3D1B5C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343D-80A3-4746-85DC-42B307013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A814-2BFA-4289-A58D-A26D963C9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67DF-24A4-4168-88CE-2D4350DAE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8EB2-7040-4E14-90BB-B6141584C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190760"/>
            <a:ext cx="5029200" cy="4267080"/>
          </a:xfrm>
          <a:prstGeom prst="rect">
            <a:avLst/>
          </a:prstGeom>
          <a:noFill/>
          <a:ln w="0">
            <a:noFill/>
          </a:ln>
        </p:spPr>
        <p:txBody>
          <a:bodyPr anchor="t">
            <a:noAutofit/>
          </a:bodyPr>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three are advanced organizers of some of the way the </a:t>
            </a:r>
            <a:r>
              <a:rPr b="1" lang="en-US" sz="1200" spc="-1" strike="noStrike">
                <a:solidFill>
                  <a:srgbClr val="000000"/>
                </a:solidFill>
                <a:latin typeface="Arial"/>
              </a:rPr>
              <a:t>calibrated data</a:t>
            </a:r>
            <a:r>
              <a:rPr b="0" lang="en-US" sz="1200" spc="-1" strike="noStrike">
                <a:solidFill>
                  <a:srgbClr val="000000"/>
                </a:solidFill>
                <a:latin typeface="Arial"/>
              </a:rPr>
              <a:t> gathered from examining student work can be aggregated and displayed.  A teacher could do this for himself/herself over time.  A grade level team could do it together.  A principal or team leader could do this to help see progress being made in accelerating student learning.</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NEED TO NOTE HERE THAT SUCH DATA IS NOT TO BE USED IN AN EVALUATIVE WAY.  THAT IS NOT THE PURPOSE OF THIS SEMINAR.  IT IS DIAGNOSTIC DATA.  THIS WOULD VIOLATE THE INTENTION OF THE AUTHORS AS THEIR APPROACH IS ONE OF COACHING AND MENTORING COLLEAGUES.  [You might want to mention the Walk-Through Training for Reflective Practice here as an example.]</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that later in the seminar you will be showing people how to aggregate data across grade level, or within a grade level over time, trend data, etc.</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want to talk enough about this chart to say that it is actual data collected in a low performing district.  </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the on-grade level percent decreases through the grades.  Also, note, this does not mean a teacher is to teach on-grade level, but that through trend data, a teacher or group of teachers could determine if they are accelerating the learning over tim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BD43-3C9B-4869-BCEA-AD7BF6C5C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ED87-354F-4387-9419-9C363A597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36A7-F95B-4F31-B6FF-CB8C353E0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911D-58CF-40ED-8CDE-0DCE4E5CC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6392-F4A0-4BDC-B39E-1EC135497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D564-D79F-45D4-9752-4B99E144B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F8C1-E45D-4835-ADED-78F99FD6D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C2BA-AD49-4653-AF78-8BDC38BFB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6163-CB50-49A2-9477-025365E4A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E0CA-012A-465A-AB22-86681ACC2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2729-B4A1-44A4-AEF0-BA7493998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CE47-58C8-4BFF-A952-194ACD262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294F-5B4F-4DD3-8B52-8C8B590C4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48BE-1BA2-4556-945F-B79B6C3D4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gh school, Beth took the most challenging courses offered and maintained a perfect 4.0 average.  On graduation day, she walked across the stage as class valedicto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t feel smart at all in college…I feel like I’m stup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37DFF-6647-4F38-A8BA-F504D4B33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C651-42C7-495E-9EEC-D01AC103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67933-03F4-4BE1-82D4-DA70AD498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491B7-C1E7-4942-B7A8-7A7F31798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D95A8-C131-4C56-B2EA-8340B2EB1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7BB05-D66B-4D45-B5B6-7AC03963A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95949-2AE1-496C-9F2E-D0536D397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E33CF-B1FD-4EE7-8E09-8384BD025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11E12-C468-42E1-8940-1349420C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A96C5-02F3-4340-8D9E-E887C807C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A0B64-552E-407D-A755-9C1ADA61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49A2B-0948-4DB0-9E42-B3F3DA92E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A33F2-A05B-45B0-9071-654A009A6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4EB72-7F57-4566-99B7-093EDB0D8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62439-951C-49EB-9573-EAEC17E39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ABD2B-BAC9-4ACA-8E01-5317E212C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41001-4268-409C-83D0-62A940587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4E6E-8A8B-4ED5-B52C-334F8F05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293B-37DC-4824-A0AE-CD2C607C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13E8F-F7AA-41F0-822D-277068F6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2812-6A90-404C-BCF2-DC4ED58AE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0B76-114E-42DE-9688-DDCEDB92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BBCA6-912A-41B2-9EB2-06BA04D5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5D2C-B784-4099-9980-4AFAF4D46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AADF-BBBA-472B-AE41-2445F9E4C57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AE2B-4B37-4CBB-92AD-D7736D2C40A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       </a:t>
            </a:r>
            <a:r>
              <a:rPr b="0" lang="en-US" sz="4000" spc="-1" strike="noStrike">
                <a:solidFill>
                  <a:srgbClr val="006666"/>
                </a:solidFill>
                <a:latin typeface="Arial"/>
              </a:rPr>
              <a:t>The Case for Rigor in the  </a:t>
            </a:r>
            <a:br>
              <a:rPr sz="4000"/>
            </a:br>
            <a:r>
              <a:rPr b="0" lang="en-US" sz="4000" spc="-1" strike="noStrike">
                <a:solidFill>
                  <a:srgbClr val="006666"/>
                </a:solidFill>
                <a:latin typeface="Arial"/>
              </a:rPr>
              <a:t>             Classroom</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though school leaders generally recognize the importance of rigor, many are not thoroughly and accurately measuring, monitoring, and encouraging rigor.  Too often it is a vague concept that means that instruction is “hard, tough, and sometimes boring.”         SRE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 how do you define rigor?</a:t>
            </a: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rite down your own defini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are with a small group of colleagues (no more than 5 per group).  Work together to refine, compile, adjust one definition to which you all agre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st your definition and be ready to shar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Walk the Walls Activity</a:t>
            </a:r>
            <a:endParaRPr b="0" lang="en-US" sz="3600" spc="-1" strike="noStrike">
              <a:solidFill>
                <a:srgbClr val="006666"/>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ook for commonalities among the group definitions pos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Rigor?</a:t>
            </a: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ritical thinking and reasoning skills; problem solving skill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ing students to analyze, evaluate, critique, synthesize, communicate, and create new knowledg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ing students to manage and direct their own learning</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ent that is complex, provocative and personally or emotionally challenging</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plicable to “real world”</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grates curriculum</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igned to NCSO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other Definition of Rigor</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xpectation that students will be able to perform at levels of cognitive complexity necessary for proficiency at each grade level and readiness for college and the workplace.</a:t>
            </a:r>
            <a:endParaRPr b="0" lang="en-US" sz="2900" spc="-1" strike="noStrike">
              <a:solidFill>
                <a:srgbClr val="000000"/>
              </a:solidFill>
              <a:latin typeface="Verdana"/>
            </a:endParaRPr>
          </a:p>
          <a:p>
            <a:pPr lvl="4" marL="2057400" indent="0">
              <a:spcBef>
                <a:spcPts val="476"/>
              </a:spcBef>
              <a:buNone/>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The College Board</a:t>
            </a:r>
            <a:endParaRPr b="0" lang="en-US" sz="1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M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raft document from Curriculum &amp; Instruc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ased on work of Jolly and Kettler, 2007; Tomlinson, 2007; Small Schools Project/ASC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Rigor Is Not</a:t>
            </a:r>
            <a:endParaRPr b="0" lang="en-US" sz="3600" spc="-1" strike="noStrike">
              <a:solidFill>
                <a:srgbClr val="006666"/>
              </a:solidFill>
              <a:latin typeface="Arial"/>
            </a:endParaRPr>
          </a:p>
        </p:txBody>
      </p:sp>
      <p:sp>
        <p:nvSpPr>
          <p:cNvPr id="130" name="PlaceHolder 2"/>
          <p:cNvSpPr>
            <a:spLocks noGrp="1"/>
          </p:cNvSpPr>
          <p:nvPr>
            <p:ph/>
          </p:nvPr>
        </p:nvSpPr>
        <p:spPr>
          <a:xfrm>
            <a:off x="1143000" y="1295280"/>
            <a:ext cx="7540560" cy="464688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synonymous with work aligned with the highest levels of Bloom’s taxonomy</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quantity</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memorization</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isolated facts and information</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extra homework</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066320"/>
            <a:ext cx="7543800" cy="533412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just </a:t>
            </a:r>
            <a:r>
              <a:rPr b="1" lang="en-US" sz="2900" spc="-1" strike="noStrike">
                <a:solidFill>
                  <a:srgbClr val="000000"/>
                </a:solidFill>
                <a:latin typeface="Verdana"/>
              </a:rPr>
              <a:t>saying</a:t>
            </a:r>
            <a:r>
              <a:rPr b="0" lang="en-US" sz="2900" spc="-1" strike="noStrike">
                <a:solidFill>
                  <a:srgbClr val="000000"/>
                </a:solidFill>
                <a:latin typeface="Verdana"/>
              </a:rPr>
              <a:t> you have high expectation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always evident by examining student grad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necessarily revealed by instructional strategies.  You can do “research” on meaningless cont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synonymous with course names (AP, IB, Hon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6854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br>
              <a:rPr sz="3200"/>
            </a:br>
            <a:br>
              <a:rPr sz="3200"/>
            </a:br>
            <a:br>
              <a:rPr sz="3200"/>
            </a:br>
            <a:r>
              <a:rPr b="0" lang="en-US" sz="3200" spc="-1" strike="noStrike">
                <a:solidFill>
                  <a:srgbClr val="006666"/>
                </a:solidFill>
                <a:latin typeface="Arial"/>
              </a:rPr>
              <a:t> </a:t>
            </a:r>
            <a:r>
              <a:rPr b="0" lang="en-US" sz="3200" spc="-1" strike="noStrike">
                <a:solidFill>
                  <a:srgbClr val="006666"/>
                </a:solidFill>
                <a:latin typeface="Arial"/>
              </a:rPr>
              <a:t>What is the connection between Rigor and Student Engagement?</a:t>
            </a:r>
            <a:br>
              <a:rPr sz="3200"/>
            </a:br>
            <a:endParaRPr b="0" lang="en-US" sz="32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is not synonymous with high levels of student engagem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lang="en-US" sz="2800" spc="-1" strike="noStrike">
                <a:solidFill>
                  <a:srgbClr val="000000"/>
                </a:solidFill>
                <a:latin typeface="Verdana"/>
              </a:rPr>
              <a:t>BUT</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with low levels of student engagement does not result in high levels of student achievemen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vels of Engagement</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hlechty’s levels of eng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uthentic eng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strategic complianc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itual complianc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etreatis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ebell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0" lang="en-US" sz="3200" spc="-1" strike="noStrike">
                <a:solidFill>
                  <a:srgbClr val="006666"/>
                </a:solidFill>
                <a:latin typeface="Arial"/>
              </a:rPr>
              <a:t>Key Questions</a:t>
            </a:r>
            <a:r>
              <a:rPr b="0" lang="en-US" sz="3200" spc="-1" strike="noStrike">
                <a:solidFill>
                  <a:srgbClr val="006666"/>
                </a:solidFill>
                <a:latin typeface="Arial"/>
              </a:rPr>
              <a:t>	</a:t>
            </a:r>
            <a:endParaRPr b="0" lang="en-US" sz="3200" spc="-1" strike="noStrike">
              <a:solidFill>
                <a:srgbClr val="006666"/>
              </a:solidFill>
              <a:latin typeface="Arial"/>
            </a:endParaRPr>
          </a:p>
        </p:txBody>
      </p:sp>
      <p:sp>
        <p:nvSpPr>
          <p:cNvPr id="100" name="PlaceHolder 2"/>
          <p:cNvSpPr>
            <a:spLocks noGrp="1"/>
          </p:cNvSpPr>
          <p:nvPr>
            <p:ph/>
          </p:nvPr>
        </p:nvSpPr>
        <p:spPr>
          <a:xfrm>
            <a:off x="837720" y="1218960"/>
            <a:ext cx="7386840" cy="5638680"/>
          </a:xfrm>
          <a:prstGeom prst="rect">
            <a:avLst/>
          </a:prstGeom>
          <a:noFill/>
          <a:ln w="0">
            <a:noFill/>
          </a:ln>
        </p:spPr>
        <p:txBody>
          <a:bodyPr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s “rigor” and why is it imperativ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s the connection between rigor and student engagemen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re is rigor found in the SQR proces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does alignment to Standards impact rigo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can a taxonomy be used to analyze the rigor in curriculum, instructional activities, and assessment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How is curriculum development related to rigor?  (scaffolding, sequencing)</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nstructional strategies can teachers use to infuse rigo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role do administrators play in monitoring rigor and supporting teachers as they work to increase rigor in the classro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vels of Engagement Activity</a:t>
            </a: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ing Dr. Schlechty’s information on levels of engagement, teach each other the characteristics of each level.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n, match each student scenario to the level it exemplif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the connection between Rigor and the SQR process?</a:t>
            </a:r>
            <a:endParaRPr b="0" lang="en-US" sz="32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hool Quality Reviews have descriptors of high quality performance in the areas of:</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Curriculu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Teaching and Learning</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Leadership and Man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n you find the rigor?</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0" name=""/>
          <p:cNvGraphicFramePr/>
          <p:nvPr/>
        </p:nvGraphicFramePr>
        <p:xfrm>
          <a:off x="228600" y="531720"/>
          <a:ext cx="8686800" cy="6232680"/>
        </p:xfrm>
        <a:graphic>
          <a:graphicData uri="http://schemas.openxmlformats.org/drawingml/2006/table">
            <a:tbl>
              <a:tblPr/>
              <a:tblGrid>
                <a:gridCol w="389880"/>
                <a:gridCol w="1985760"/>
                <a:gridCol w="5874120"/>
                <a:gridCol w="218880"/>
                <a:gridCol w="218880"/>
              </a:tblGrid>
              <a:tr h="1355760">
                <a:tc gridSpan="5">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School Quality Review 2. Curriculum: </a:t>
                      </a:r>
                      <a:r>
                        <a:rPr b="0" lang="en-US" sz="1700" spc="-1" strike="noStrike">
                          <a:solidFill>
                            <a:srgbClr val="000000"/>
                          </a:solidFill>
                          <a:latin typeface="Verdana"/>
                          <a:ea typeface="Times New Roman"/>
                        </a:rPr>
                        <a:t>The curriculum is relevant and appropriate to the needs of all children, across all grades, and for all sub-groups in the</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student population.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63600">
                <a:tc>
                  <a:txBody>
                    <a:bodyPr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1.</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curriculum</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and instructional</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programs are</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aligned to the NCSCOS.</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All teachers consistently use the NCSCOS to plan.  The instructional programs are monitored, evaluated and reviewed by the instructional leadership team to ensure consistency, alignment and full coverage of the NCSCOS.  The curriculum is taught to the standards and differentiated to meet the full range of individual need and access. </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63960">
                <a:tc>
                  <a:txBody>
                    <a:bodyPr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2.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The curriculum i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designed to mee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the  individual</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learning needs of</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all students. </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curriculum plan is fully implemented and adhered to across all grades and classes.  It is differentiated through teachers’ planning to meet the academic needs of all children and is evaluated regularly to ensure that all academic needs of children are met.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Flexible amendments to the plan as necessary to meet student needs</a:t>
                      </a:r>
                      <a:r>
                        <a:rPr b="0" lang="en-US" sz="1700" spc="-1" strike="noStrike">
                          <a:solidFill>
                            <a:srgbClr val="ff0000"/>
                          </a:solidFill>
                          <a:latin typeface="Verdana"/>
                          <a:ea typeface="Times New Roman"/>
                        </a:rPr>
                        <a:t>.</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Rectangle 59"/>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
          <p:cNvGraphicFramePr/>
          <p:nvPr/>
        </p:nvGraphicFramePr>
        <p:xfrm>
          <a:off x="152280" y="1295280"/>
          <a:ext cx="8666280" cy="5181840"/>
        </p:xfrm>
        <a:graphic>
          <a:graphicData uri="http://schemas.openxmlformats.org/drawingml/2006/table">
            <a:tbl>
              <a:tblPr/>
              <a:tblGrid>
                <a:gridCol w="533520"/>
                <a:gridCol w="2438280"/>
                <a:gridCol w="5694480"/>
              </a:tblGrid>
              <a:tr h="7938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8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are making good progress.  The pace of learning is appropriate for their grade and level of achievemen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Most students are making very good progress in their learning.  All student groups are progressing very well because the teaching the receive is consistently high quality, well paced and challeng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0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2</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demonstrate a high level of time on task</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In most classrooms, students are regularly on task.  They are highly motivated to achieve, improve and are interested and enjoy their learning and will persevere when work is difficul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 name=""/>
          <p:cNvGraphicFramePr/>
          <p:nvPr/>
        </p:nvGraphicFramePr>
        <p:xfrm>
          <a:off x="304920" y="1295280"/>
          <a:ext cx="8534160" cy="5302440"/>
        </p:xfrm>
        <a:graphic>
          <a:graphicData uri="http://schemas.openxmlformats.org/drawingml/2006/table">
            <a:tbl>
              <a:tblPr/>
              <a:tblGrid>
                <a:gridCol w="525240"/>
                <a:gridCol w="2054160"/>
                <a:gridCol w="5954760"/>
              </a:tblGrid>
              <a:tr h="54936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76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are given responsibility for, and are involved in, their own learning.  They are provided with opportunities for independent thinking and problem solv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students are developing high-quality skills in problem solving.  They have developed strategies that enable them to approach problem solving with confidence and independence because teachers are very effective in planning and implementing strategies to explicitly and incrementally develop these skills.  Students are aware of the elements of effective problem solving and learning skills.  They know their strengths and areas for improvemen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672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respond well to opportunities for collaborative working.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are developing and using very good collaborative skills because teachers are very effective in providing planned opportunities or them to develop these strategies.  Students understand the importance of working together and can articulate how participation in teamwork and cooperative activities can help them to improve their own learning.  They know their own strengths are areas for improvemen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a:t>
            </a:r>
            <a:r>
              <a:rPr b="0" lang="en-US" sz="1800" spc="-1" strike="noStrike">
                <a:solidFill>
                  <a:srgbClr val="000000"/>
                </a:solidFill>
                <a:latin typeface="Arial"/>
              </a:rPr>
              <a:t> </a:t>
            </a:r>
            <a:r>
              <a:rPr b="1" lang="en-US" sz="1800" spc="-1" strike="noStrike">
                <a:solidFill>
                  <a:srgbClr val="000000"/>
                </a:solidFill>
                <a:latin typeface="Arial"/>
              </a:rPr>
              <a:t>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
          <p:cNvGraphicFramePr/>
          <p:nvPr/>
        </p:nvGraphicFramePr>
        <p:xfrm>
          <a:off x="152280" y="1295280"/>
          <a:ext cx="8666280" cy="5375520"/>
        </p:xfrm>
        <a:graphic>
          <a:graphicData uri="http://schemas.openxmlformats.org/drawingml/2006/table">
            <a:tbl>
              <a:tblPr/>
              <a:tblGrid>
                <a:gridCol w="533520"/>
                <a:gridCol w="2085840"/>
                <a:gridCol w="6046920"/>
              </a:tblGrid>
              <a:tr h="5590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33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respond to the high expectations for achievements by teache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respond very well to the very good pace, well- matched challenge and high expectations set by their teachers.  Teacher expectations are equally high for all groups and student participation is also high.  Students are aware of their own progress and their next steps in learning and are fully engaged in the learning process</a:t>
                      </a:r>
                      <a:r>
                        <a:rPr b="0" lang="en-US" sz="1500" spc="-1" strike="noStrike">
                          <a:solidFill>
                            <a:srgbClr val="000000"/>
                          </a:solidFill>
                          <a:latin typeface="Verdana"/>
                          <a:ea typeface="Times New Roman"/>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30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3.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eaching is aligned with the derived, written and posted NC Standard Course of Study (NCSCOS) objectiv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Most teachers regularly teach lessons aligned with the derived, written, and posted NCSCOS.  These are clearly and consistently articulated to students in age- appropriate ways in the classroom in order to give focus and purpose to learning.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304920" y="1143000"/>
          <a:ext cx="8534160" cy="5454720"/>
        </p:xfrm>
        <a:graphic>
          <a:graphicData uri="http://schemas.openxmlformats.org/drawingml/2006/table">
            <a:tbl>
              <a:tblPr/>
              <a:tblGrid>
                <a:gridCol w="525240"/>
                <a:gridCol w="2370240"/>
                <a:gridCol w="5638680"/>
              </a:tblGrid>
              <a:tr h="6271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42092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work collaboratively to plan lessons which are effective and improve instruc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plan collaboratively.  They share planning to ensure that there is alignment between grades, courses and classes.  Working together they design and implement lesson plans that include appropriate components of effective lesson desig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demonstrate sound knowledge, skills, and understanding of content/subject taugh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he majority of teachers demonstrate very good subject knowledge and understanding of the subjects taught.  They are highly skilled in making well judged adaptations to their teaching so that students are challenged and make good prog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432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use questioning strategies that promote higher level thinking and problem solv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consistently provide higher-level thinking and problem solving opportunities which engage, motivate and challenge students, including skilled use of questioning for studen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304920" y="1143000"/>
          <a:ext cx="8534160" cy="5381640"/>
        </p:xfrm>
        <a:graphic>
          <a:graphicData uri="http://schemas.openxmlformats.org/drawingml/2006/table">
            <a:tbl>
              <a:tblPr/>
              <a:tblGrid>
                <a:gridCol w="609480"/>
                <a:gridCol w="2286000"/>
                <a:gridCol w="5638680"/>
              </a:tblGrid>
              <a:tr h="6271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92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ing reflects strategies that appropriately meet the needs of diverse learn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frequently differentiate instruction and address learning styles to meet the needs of divers learners.  The match with the achievement level of each student well judged to ensure that teaching is highly effective in securing very good student progress within lesson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21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use a variety of strategies, data and information to assess all students’ achievement of learning objectives.  Information derived is used to inform instruction and to make adjustments to teaching as necessar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use multiple methods to assess students’ attainment of learning objectives.  Reliable data and information is routinely used to make adjustments to planning and modify instruction.  Classroom organization and student grouping is very effectively and consistently based on outcomes from assessment.  Routine assessment strategies such as questioning are very effectively and frequently used to judge students understanding and progress within lesson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4:  Leadership and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school has high quality leadership and management with a cl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sion, ambition, and goals; a focus on student achievement, a sens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pose, and strategies which impact directly on students;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52280" y="1676520"/>
          <a:ext cx="8666280" cy="4419360"/>
        </p:xfrm>
        <a:graphic>
          <a:graphicData uri="http://schemas.openxmlformats.org/drawingml/2006/table">
            <a:tbl>
              <a:tblPr/>
              <a:tblGrid>
                <a:gridCol w="533520"/>
                <a:gridCol w="2085840"/>
                <a:gridCol w="6046920"/>
              </a:tblGrid>
              <a:tr h="833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90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Instructional Leadershi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5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c.</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principal and other school leaders monitor and evaluate the instructional program using multiple data sourc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Leadership Team systematically monitors and evaluates planning and the instructional program, conducts formal and informal teacher observations, analyzes many data sources to determine student progress and areas of need, and make highly effective decisions to improve teacher quality and student learning based on this information.  The outcomes are monitored to evaluate effica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does alignment to Standards impact rigor?</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aching not aligned with grade level Standards is not rigorou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verb” designated in a Standard is critical to determining the level of rigor expected by the Standar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ignment needs to be both external and interna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bjectives</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Day 1</a:t>
            </a:r>
            <a:endParaRPr b="0" lang="en-US" sz="3600" spc="-1" strike="noStrike">
              <a:solidFill>
                <a:srgbClr val="006666"/>
              </a:solidFill>
              <a:latin typeface="Arial"/>
            </a:endParaRPr>
          </a:p>
        </p:txBody>
      </p:sp>
      <p:sp>
        <p:nvSpPr>
          <p:cNvPr id="102" name="PlaceHolder 2"/>
          <p:cNvSpPr>
            <a:spLocks noGrp="1"/>
          </p:cNvSpPr>
          <p:nvPr>
            <p:ph/>
          </p:nvPr>
        </p:nvSpPr>
        <p:spPr>
          <a:xfrm>
            <a:off x="948960" y="1752480"/>
            <a:ext cx="8194680" cy="510552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y is rigor impera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rig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connection between rigor and student engage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re is rigor found in the SQR proces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es alignment impact rigo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51920"/>
            <a:ext cx="8305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Calibration Chart</a:t>
            </a:r>
            <a:endParaRPr b="0" lang="en-US" sz="3600" spc="-1" strike="noStrike">
              <a:solidFill>
                <a:srgbClr val="006666"/>
              </a:solidFill>
              <a:latin typeface="Arial"/>
            </a:endParaRPr>
          </a:p>
        </p:txBody>
      </p:sp>
      <p:graphicFrame>
        <p:nvGraphicFramePr>
          <p:cNvPr id="156" name="Object 3"/>
          <p:cNvGraphicFramePr/>
          <p:nvPr/>
        </p:nvGraphicFramePr>
        <p:xfrm>
          <a:off x="-228600" y="1447920"/>
          <a:ext cx="8001000" cy="5154480"/>
        </p:xfrm>
        <a:graphic>
          <a:graphicData uri="http://schemas.openxmlformats.org/presentationml/2006/ole">
            <p:oleObj progId="Word.Document.12" r:id="rId1" spid="">
              <p:embed/>
              <p:pic>
                <p:nvPicPr>
                  <p:cNvPr id="157" name="Object 3" descr=""/>
                  <p:cNvPicPr/>
                  <p:nvPr/>
                </p:nvPicPr>
                <p:blipFill>
                  <a:blip r:embed="rId2"/>
                  <a:stretch/>
                </p:blipFill>
                <p:spPr>
                  <a:xfrm>
                    <a:off x="-228600" y="1447920"/>
                    <a:ext cx="8001000" cy="5154480"/>
                  </a:xfrm>
                  <a:prstGeom prst="rect">
                    <a:avLst/>
                  </a:prstGeom>
                  <a:ln w="0">
                    <a:noFill/>
                  </a:ln>
                </p:spPr>
              </p:pic>
            </p:oleObj>
          </a:graphicData>
        </a:graphic>
      </p:graphicFrame>
      <p:sp>
        <p:nvSpPr>
          <p:cNvPr id="158" name="Line 4"/>
          <p:cNvSpPr/>
          <p:nvPr/>
        </p:nvSpPr>
        <p:spPr>
          <a:xfrm>
            <a:off x="8686800" y="1447920"/>
            <a:ext cx="0" cy="48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ternal and Internal Alignment</a:t>
            </a:r>
            <a:endParaRPr b="0" lang="en-US" sz="3600" spc="-1" strike="noStrike">
              <a:solidFill>
                <a:srgbClr val="006666"/>
              </a:solidFill>
              <a:latin typeface="Arial"/>
            </a:endParaRPr>
          </a:p>
        </p:txBody>
      </p:sp>
      <p:graphicFrame>
        <p:nvGraphicFramePr>
          <p:cNvPr id="160" name=""/>
          <p:cNvGraphicFramePr/>
          <p:nvPr/>
        </p:nvGraphicFramePr>
        <p:xfrm>
          <a:off x="914400" y="1676520"/>
          <a:ext cx="7543800" cy="4649760"/>
        </p:xfrm>
        <a:graphic>
          <a:graphicData uri="http://schemas.openxmlformats.org/drawingml/2006/table">
            <a:tbl>
              <a:tblPr/>
              <a:tblGrid>
                <a:gridCol w="3498840"/>
                <a:gridCol w="4044960"/>
              </a:tblGrid>
              <a:tr h="11793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state standards</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ithin the lesso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704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C Standard Course of Study</a:t>
            </a:r>
            <a:endParaRPr b="0" lang="en-US" sz="3600" spc="-1" strike="noStrike">
              <a:solidFill>
                <a:srgbClr val="006666"/>
              </a:solidFill>
              <a:latin typeface="Arial"/>
            </a:endParaRPr>
          </a:p>
        </p:txBody>
      </p:sp>
      <p:graphicFrame>
        <p:nvGraphicFramePr>
          <p:cNvPr id="162" name=""/>
          <p:cNvGraphicFramePr/>
          <p:nvPr/>
        </p:nvGraphicFramePr>
        <p:xfrm>
          <a:off x="990720" y="1981080"/>
          <a:ext cx="7772400" cy="4351320"/>
        </p:xfrm>
        <a:graphic>
          <a:graphicData uri="http://schemas.openxmlformats.org/drawingml/2006/table">
            <a:tbl>
              <a:tblPr/>
              <a:tblGrid>
                <a:gridCol w="2590560"/>
                <a:gridCol w="2667240"/>
                <a:gridCol w="2514600"/>
              </a:tblGrid>
              <a:tr h="1059120">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a:t>
                      </a:r>
                      <a:r>
                        <a:rPr b="0" lang="en-US" sz="2100" spc="-1" strike="noStrike" baseline="30000">
                          <a:solidFill>
                            <a:srgbClr val="000000"/>
                          </a:solidFill>
                          <a:latin typeface="Verdana"/>
                        </a:rPr>
                        <a:t>th</a:t>
                      </a:r>
                      <a:r>
                        <a:rPr b="0" lang="en-US" sz="2100" spc="-1" strike="noStrike">
                          <a:solidFill>
                            <a:srgbClr val="000000"/>
                          </a:solidFill>
                          <a:latin typeface="Verdana"/>
                        </a:rPr>
                        <a:t> Grade </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8</a:t>
                      </a:r>
                      <a:r>
                        <a:rPr b="0" i="1" lang="en-US" sz="2100" spc="-1" strike="noStrike" baseline="30000">
                          <a:solidFill>
                            <a:srgbClr val="000000"/>
                          </a:solidFill>
                          <a:latin typeface="Verdana"/>
                        </a:rPr>
                        <a:t>th</a:t>
                      </a:r>
                      <a:r>
                        <a:rPr b="0" i="1" lang="en-US" sz="2100" spc="-1" strike="noStrike">
                          <a:solidFill>
                            <a:srgbClr val="000000"/>
                          </a:solidFill>
                          <a:latin typeface="Verdana"/>
                        </a:rPr>
                        <a:t> Grade </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ocial Studi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11</a:t>
                      </a:r>
                      <a:r>
                        <a:rPr b="0" i="1" lang="en-US" sz="2100" spc="-1" strike="noStrike" baseline="30000">
                          <a:solidFill>
                            <a:srgbClr val="000000"/>
                          </a:solidFill>
                          <a:latin typeface="Verdana"/>
                        </a:rPr>
                        <a:t>th</a:t>
                      </a:r>
                      <a:r>
                        <a:rPr b="0" i="1" lang="en-US" sz="2100" spc="-1" strike="noStrike">
                          <a:solidFill>
                            <a:srgbClr val="000000"/>
                          </a:solidFill>
                          <a:latin typeface="Verdana"/>
                        </a:rPr>
                        <a:t> Grade</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US Histor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92200">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05 </a:t>
                      </a:r>
                      <a:r>
                        <a:rPr b="1" lang="en-US" sz="2100" spc="-1" strike="noStrike">
                          <a:solidFill>
                            <a:srgbClr val="000000"/>
                          </a:solidFill>
                          <a:latin typeface="Verdana"/>
                        </a:rPr>
                        <a:t>Describe the impact</a:t>
                      </a:r>
                      <a:r>
                        <a:rPr b="0" lang="en-US" sz="2100" spc="-1" strike="noStrike">
                          <a:solidFill>
                            <a:srgbClr val="000000"/>
                          </a:solidFill>
                          <a:latin typeface="Verdana"/>
                        </a:rPr>
                        <a:t> of wars and conflicts on US Citizens, including but not limited to, the Civil War, WWI…</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01 </a:t>
                      </a:r>
                      <a:r>
                        <a:rPr b="1" lang="en-US" sz="2100" spc="-1" strike="noStrike">
                          <a:solidFill>
                            <a:srgbClr val="000000"/>
                          </a:solidFill>
                          <a:latin typeface="Verdana"/>
                        </a:rPr>
                        <a:t>Identify and analyze the significance of the causes of secession</a:t>
                      </a:r>
                      <a:r>
                        <a:rPr b="0" lang="en-US" sz="2100" spc="-1" strike="noStrike">
                          <a:solidFill>
                            <a:srgbClr val="000000"/>
                          </a:solidFill>
                          <a:latin typeface="Verdana"/>
                        </a:rPr>
                        <a:t> from the Union, and compare reactions in NC to reactions in other regions of the nation.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02 </a:t>
                      </a:r>
                      <a:r>
                        <a:rPr b="1" lang="en-US" sz="2100" spc="-1" strike="noStrike">
                          <a:solidFill>
                            <a:srgbClr val="000000"/>
                          </a:solidFill>
                          <a:latin typeface="Verdana"/>
                        </a:rPr>
                        <a:t>Analyze and assess the causes</a:t>
                      </a:r>
                      <a:r>
                        <a:rPr b="0" lang="en-US" sz="2100" spc="-1" strike="noStrike">
                          <a:solidFill>
                            <a:srgbClr val="000000"/>
                          </a:solidFill>
                          <a:latin typeface="Verdana"/>
                        </a:rPr>
                        <a:t> of the Civil War.</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C Standard Course of Study</a:t>
            </a:r>
            <a:endParaRPr b="0" lang="en-US" sz="3600" spc="-1" strike="noStrike">
              <a:solidFill>
                <a:srgbClr val="006666"/>
              </a:solidFill>
              <a:latin typeface="Arial"/>
            </a:endParaRPr>
          </a:p>
        </p:txBody>
      </p:sp>
      <p:graphicFrame>
        <p:nvGraphicFramePr>
          <p:cNvPr id="164" name=""/>
          <p:cNvGraphicFramePr/>
          <p:nvPr/>
        </p:nvGraphicFramePr>
        <p:xfrm>
          <a:off x="990720" y="1828800"/>
          <a:ext cx="7772400" cy="4724280"/>
        </p:xfrm>
        <a:graphic>
          <a:graphicData uri="http://schemas.openxmlformats.org/drawingml/2006/table">
            <a:tbl>
              <a:tblPr/>
              <a:tblGrid>
                <a:gridCol w="2590560"/>
                <a:gridCol w="2590920"/>
                <a:gridCol w="2590920"/>
              </a:tblGrid>
              <a:tr h="10587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6</a:t>
                      </a:r>
                      <a:r>
                        <a:rPr b="0" i="1" lang="en-US" sz="2500" spc="-1" strike="noStrike" baseline="30000">
                          <a:solidFill>
                            <a:srgbClr val="000000"/>
                          </a:solidFill>
                          <a:latin typeface="Verdana"/>
                        </a:rPr>
                        <a:t>th</a:t>
                      </a:r>
                      <a:r>
                        <a:rPr b="0" i="1" lang="en-US" sz="2500" spc="-1" strike="noStrike">
                          <a:solidFill>
                            <a:srgbClr val="000000"/>
                          </a:solidFill>
                          <a:latin typeface="Verdana"/>
                        </a:rPr>
                        <a:t> Grade </a:t>
                      </a: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7</a:t>
                      </a:r>
                      <a:r>
                        <a:rPr b="0" lang="en-US" sz="2500" spc="-1" strike="noStrike" baseline="30000">
                          <a:solidFill>
                            <a:srgbClr val="000000"/>
                          </a:solidFill>
                          <a:latin typeface="Verdana"/>
                        </a:rPr>
                        <a:t>th</a:t>
                      </a:r>
                      <a:r>
                        <a:rPr b="0" lang="en-US" sz="2500" spc="-1" strike="noStrike">
                          <a:solidFill>
                            <a:srgbClr val="000000"/>
                          </a:solidFill>
                          <a:latin typeface="Verdana"/>
                        </a:rPr>
                        <a:t> Grade</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8</a:t>
                      </a:r>
                      <a:r>
                        <a:rPr b="0" lang="en-US" sz="2500" spc="-1" strike="noStrike" baseline="30000">
                          <a:solidFill>
                            <a:srgbClr val="000000"/>
                          </a:solidFill>
                          <a:latin typeface="Verdana"/>
                        </a:rPr>
                        <a:t>th</a:t>
                      </a:r>
                      <a:r>
                        <a:rPr b="0" lang="en-US" sz="2500" spc="-1" strike="noStrike">
                          <a:solidFill>
                            <a:srgbClr val="000000"/>
                          </a:solidFill>
                          <a:latin typeface="Verdana"/>
                        </a:rPr>
                        <a:t> Grade</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55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a:t>
                      </a:r>
                      <a:r>
                        <a:rPr b="1" lang="en-US" sz="2500" spc="-1" strike="noStrike">
                          <a:solidFill>
                            <a:srgbClr val="000000"/>
                          </a:solidFill>
                          <a:latin typeface="Verdana"/>
                        </a:rPr>
                        <a:t>Identify and describe</a:t>
                      </a:r>
                      <a:r>
                        <a:rPr b="0" lang="en-US" sz="2500" spc="-1" strike="noStrike">
                          <a:solidFill>
                            <a:srgbClr val="000000"/>
                          </a:solidFill>
                          <a:latin typeface="Verdana"/>
                        </a:rPr>
                        <a:t> the intersection of figures in a plan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Using 3-D figures, identify, describe and </a:t>
                      </a:r>
                      <a:r>
                        <a:rPr b="1" lang="en-US" sz="2500" spc="-1" strike="noStrike">
                          <a:solidFill>
                            <a:srgbClr val="000000"/>
                          </a:solidFill>
                          <a:latin typeface="Verdana"/>
                        </a:rPr>
                        <a:t>draw from various views (top, side, front, corner).</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a:t>
                      </a:r>
                      <a:r>
                        <a:rPr b="1" lang="en-US" sz="2500" spc="-1" strike="noStrike">
                          <a:solidFill>
                            <a:srgbClr val="000000"/>
                          </a:solidFill>
                          <a:latin typeface="Verdana"/>
                        </a:rPr>
                        <a:t>Represent problem situations with geometric models.</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eed a k-2 example</a:t>
            </a: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914400" y="1036800"/>
            <a:ext cx="8229600" cy="5821200"/>
          </a:xfrm>
          <a:prstGeom prst="rect">
            <a:avLst/>
          </a:prstGeom>
          <a:noFill/>
          <a:ln w="0">
            <a:noFill/>
          </a:ln>
        </p:spPr>
        <p:txBody>
          <a:bodyPr anchor="t">
            <a:normAutofit/>
          </a:bodyPr>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acher:</a:t>
            </a:r>
            <a:r>
              <a:rPr b="0" lang="en-US" sz="2100" spc="-1" strike="noStrike">
                <a:solidFill>
                  <a:srgbClr val="000000"/>
                </a:solidFill>
                <a:latin typeface="Verdana"/>
              </a:rPr>
              <a:t> Sue Smith   9:42am          Date: 9/20/06</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ubject</a:t>
            </a:r>
            <a:r>
              <a:rPr b="0" lang="en-US" sz="2100" spc="-1" strike="noStrike">
                <a:solidFill>
                  <a:srgbClr val="000000"/>
                </a:solidFill>
                <a:latin typeface="Verdana"/>
              </a:rPr>
              <a:t>: Language Arts</a:t>
            </a:r>
            <a:r>
              <a:rPr b="0" lang="en-US" sz="2100" spc="-1" strike="noStrike">
                <a:solidFill>
                  <a:srgbClr val="000000"/>
                </a:solidFill>
                <a:latin typeface="Verdana"/>
              </a:rPr>
              <a:t>	</a:t>
            </a:r>
            <a:r>
              <a:rPr b="0" lang="en-US" sz="2100" spc="-1" strike="noStrike">
                <a:solidFill>
                  <a:srgbClr val="000000"/>
                </a:solidFill>
                <a:latin typeface="Verdana"/>
              </a:rPr>
              <a:t>                          Grade: 8</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me-on-Task</a:t>
            </a:r>
            <a:r>
              <a:rPr b="0" lang="en-US" sz="2100" spc="-1" strike="noStrike">
                <a:solidFill>
                  <a:srgbClr val="000000"/>
                </a:solidFill>
                <a:latin typeface="Verdana"/>
              </a:rPr>
              <a:t>: Students were completing a seatwork assignment (written task)</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structional Objective</a:t>
            </a:r>
            <a:r>
              <a:rPr b="0" lang="en-US" sz="2100" spc="-1" strike="noStrike">
                <a:solidFill>
                  <a:srgbClr val="000000"/>
                </a:solidFill>
                <a:latin typeface="Verdana"/>
              </a:rPr>
              <a:t>: Students will analyze the impact that the setting has in </a:t>
            </a:r>
            <a:r>
              <a:rPr b="0" lang="en-US" sz="2100" spc="-1" strike="noStrike" u="sng">
                <a:solidFill>
                  <a:srgbClr val="000000"/>
                </a:solidFill>
                <a:uFillTx/>
                <a:latin typeface="Verdana"/>
              </a:rPr>
              <a:t>The Masque of the Red Death</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tentional Teaching Strategy</a:t>
            </a:r>
            <a:r>
              <a:rPr b="0" lang="en-US" sz="2100" spc="-1" strike="noStrike">
                <a:solidFill>
                  <a:srgbClr val="000000"/>
                </a:solidFill>
                <a:latin typeface="Verdana"/>
              </a:rPr>
              <a:t>: teacher monitoring independent written work (worksheet comparing setting in </a:t>
            </a:r>
            <a:r>
              <a:rPr b="0" lang="en-US" sz="2100" spc="-1" strike="noStrike" u="sng">
                <a:solidFill>
                  <a:srgbClr val="000000"/>
                </a:solidFill>
                <a:uFillTx/>
                <a:latin typeface="Verdana"/>
              </a:rPr>
              <a:t>Masque of the Red Death</a:t>
            </a:r>
            <a:r>
              <a:rPr b="0" lang="en-US" sz="2100" spc="-1" strike="noStrike">
                <a:solidFill>
                  <a:srgbClr val="000000"/>
                </a:solidFill>
                <a:latin typeface="Verdana"/>
              </a:rPr>
              <a:t> to </a:t>
            </a:r>
            <a:r>
              <a:rPr b="0" lang="en-US" sz="2100" spc="-1" strike="noStrike" u="sng">
                <a:solidFill>
                  <a:srgbClr val="000000"/>
                </a:solidFill>
                <a:uFillTx/>
                <a:latin typeface="Verdana"/>
              </a:rPr>
              <a:t>The Fall of the House of Ushe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libration</a:t>
            </a:r>
            <a:r>
              <a:rPr b="0" lang="en-US" sz="2100" spc="-1" strike="noStrike">
                <a:solidFill>
                  <a:srgbClr val="000000"/>
                </a:solidFill>
                <a:latin typeface="Verdana"/>
              </a:rPr>
              <a:t>:               </a:t>
            </a:r>
            <a:r>
              <a:rPr b="1" lang="en-US" sz="2100" spc="-1" strike="noStrike">
                <a:solidFill>
                  <a:srgbClr val="000000"/>
                </a:solidFill>
                <a:latin typeface="Verdana"/>
              </a:rPr>
              <a:t>Level of Cognition</a:t>
            </a:r>
            <a:r>
              <a:rPr b="0" lang="en-US" sz="2100" spc="-1" strike="noStrike">
                <a:solidFill>
                  <a:srgbClr val="000000"/>
                </a:solidFill>
                <a:latin typeface="Verdana"/>
              </a:rPr>
              <a:t>: Comprehension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chool/District/Content Initiatives</a:t>
            </a:r>
            <a:r>
              <a:rPr b="0" lang="en-US" sz="2100" spc="-1" strike="noStrike">
                <a:solidFill>
                  <a:srgbClr val="000000"/>
                </a:solidFill>
                <a:latin typeface="Verdana"/>
              </a:rPr>
              <a:t>: N/A</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 Work</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Let’s Practice</a:t>
            </a: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ut the classroom observation cards in “calendar” order, including the card just used to model this proces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amine the three remaining cards, identifying the external and internal alignmen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so examine the cards to determine the level of cognition noted in each observ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would you mentor this teacher?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mework</a:t>
            </a: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duct eight walkthroughs.  Summarize your findings in a chart or narrative – identifying both external and internal alignmen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hree samples of student work in your school and bring them to share. Identify the NCSCOS objective(s) to which the work is align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wo lesson plans in your school and bring them to share.  Identify both the external and internal alignment found in these lesson plan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 </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is the expectation that students will be able to perform at levels of cognitive complexity necessary for proficiency at each grade level and readiness for college and the workplac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ignment of instruction and assessment with standards that are at those levels of cognitive complexity is a critical part of increasing rigor in school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Why is Rigor Imperative?</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sis with Rigor in American Classrooms</a:t>
            </a:r>
            <a:br>
              <a:rPr sz="2400"/>
            </a:br>
            <a:endParaRPr b="0" lang="en-US" sz="24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e high school students prepared to enter the work force?</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0% of employees rate high school graduates as </a:t>
            </a:r>
            <a:r>
              <a:rPr b="1" lang="en-US" sz="2100" spc="-1" strike="noStrike">
                <a:solidFill>
                  <a:srgbClr val="000000"/>
                </a:solidFill>
                <a:latin typeface="Verdana"/>
              </a:rPr>
              <a:t>deficient</a:t>
            </a:r>
            <a:r>
              <a:rPr b="0" lang="en-US" sz="2100" spc="-1" strike="noStrike">
                <a:solidFill>
                  <a:srgbClr val="000000"/>
                </a:solidFill>
                <a:latin typeface="Verdana"/>
              </a:rPr>
              <a:t> in the basic skills of </a:t>
            </a:r>
            <a:r>
              <a:rPr b="1" lang="en-US" sz="2100" spc="-1" strike="noStrike">
                <a:solidFill>
                  <a:srgbClr val="000000"/>
                </a:solidFill>
                <a:latin typeface="Verdana"/>
              </a:rPr>
              <a:t>written communication</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3.5% of employees rate high school graduates as </a:t>
            </a:r>
            <a:r>
              <a:rPr b="1" lang="en-US" sz="2100" spc="-1" strike="noStrike">
                <a:solidFill>
                  <a:srgbClr val="000000"/>
                </a:solidFill>
                <a:latin typeface="Verdana"/>
              </a:rPr>
              <a:t>deficient</a:t>
            </a:r>
            <a:r>
              <a:rPr b="0" lang="en-US" sz="2100" spc="-1" strike="noStrike">
                <a:solidFill>
                  <a:srgbClr val="000000"/>
                </a:solidFill>
                <a:latin typeface="Verdana"/>
              </a:rPr>
              <a:t> in the basic skills of </a:t>
            </a:r>
            <a:r>
              <a:rPr b="1" lang="en-US" sz="2100" spc="-1" strike="noStrike">
                <a:solidFill>
                  <a:srgbClr val="000000"/>
                </a:solidFill>
                <a:latin typeface="Verdana"/>
              </a:rPr>
              <a:t>mathematics.</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8.4% of employers rate high school work force entrees as </a:t>
            </a:r>
            <a:r>
              <a:rPr b="1" lang="en-US" sz="2500" spc="-1" strike="noStrike">
                <a:solidFill>
                  <a:srgbClr val="000000"/>
                </a:solidFill>
                <a:latin typeface="Verdana"/>
              </a:rPr>
              <a:t>deficient </a:t>
            </a:r>
            <a:r>
              <a:rPr b="0" lang="en-US" sz="2500" spc="-1" strike="noStrike">
                <a:solidFill>
                  <a:srgbClr val="000000"/>
                </a:solidFill>
                <a:latin typeface="Verdana"/>
              </a:rPr>
              <a:t>in the basic skills of </a:t>
            </a:r>
            <a:r>
              <a:rPr b="1" lang="en-US" sz="2500" spc="-1" strike="noStrike">
                <a:solidFill>
                  <a:srgbClr val="000000"/>
                </a:solidFill>
                <a:latin typeface="Verdana"/>
              </a:rPr>
              <a:t>reading comprehension.</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9.6% of employees rate high school graduates as </a:t>
            </a:r>
            <a:r>
              <a:rPr b="1" lang="en-US" sz="2500" spc="-1" strike="noStrike">
                <a:solidFill>
                  <a:srgbClr val="000000"/>
                </a:solidFill>
                <a:latin typeface="Verdana"/>
              </a:rPr>
              <a:t>deficient</a:t>
            </a:r>
            <a:r>
              <a:rPr b="0" lang="en-US" sz="2500" spc="-1" strike="noStrike">
                <a:solidFill>
                  <a:srgbClr val="000000"/>
                </a:solidFill>
                <a:latin typeface="Verdana"/>
              </a:rPr>
              <a:t> in </a:t>
            </a:r>
            <a:r>
              <a:rPr b="1" lang="en-US" sz="2500" spc="-1" strike="noStrike">
                <a:solidFill>
                  <a:srgbClr val="000000"/>
                </a:solidFill>
                <a:latin typeface="Verdana"/>
              </a:rPr>
              <a:t>critical thinking and problem solving skills</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ge Eligible, Not College Ready</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80% of 10</a:t>
            </a:r>
            <a:r>
              <a:rPr b="0" lang="en-US" sz="2500" spc="-1" strike="noStrike" baseline="30000">
                <a:solidFill>
                  <a:srgbClr val="000000"/>
                </a:solidFill>
                <a:latin typeface="Verdana"/>
              </a:rPr>
              <a:t>th</a:t>
            </a:r>
            <a:r>
              <a:rPr b="0" lang="en-US" sz="2500" spc="-1" strike="noStrike">
                <a:solidFill>
                  <a:srgbClr val="000000"/>
                </a:solidFill>
                <a:latin typeface="Verdana"/>
              </a:rPr>
              <a:t> grade students now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spire to earn a bachelor’s degree.</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This figure has doubled since 1980.</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Following trends since 1990, less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than half of these students will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chieve this dream.</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llege Eligible, Not College Ready</a:t>
            </a:r>
            <a:endParaRPr b="0" lang="en-US" sz="32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ly 33% of high school graduates meet basic admissions requirements of 4 year colleges and universiti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frican American       20%</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merican Indian        14%</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sian American         38%</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Hispanic                     16%</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White                          37%</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0" lang="en-US" sz="3200" spc="-1" strike="noStrike">
                <a:solidFill>
                  <a:srgbClr val="006666"/>
                </a:solidFill>
                <a:latin typeface="Arial"/>
              </a:rPr>
              <a:t>Impact of AP on 5-Year College          </a:t>
            </a:r>
            <a:br>
              <a:rPr sz="3200"/>
            </a:br>
            <a:r>
              <a:rPr b="0" lang="en-US" sz="3200" spc="-1" strike="noStrike">
                <a:solidFill>
                  <a:srgbClr val="006666"/>
                </a:solidFill>
                <a:latin typeface="Arial"/>
              </a:rPr>
              <a:t>             Graduation Rates</a:t>
            </a:r>
            <a:endParaRPr b="0" lang="en-US" sz="32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113" name=""/>
          <p:cNvGraphicFramePr/>
          <p:nvPr/>
        </p:nvGraphicFramePr>
        <p:xfrm>
          <a:off x="1066680" y="1371600"/>
          <a:ext cx="7239240" cy="5105520"/>
        </p:xfrm>
        <a:graphic>
          <a:graphicData uri="http://schemas.openxmlformats.org/drawingml/2006/table">
            <a:tbl>
              <a:tblPr/>
              <a:tblGrid>
                <a:gridCol w="2333880"/>
                <a:gridCol w="1508040"/>
                <a:gridCol w="1508040"/>
                <a:gridCol w="1889280"/>
              </a:tblGrid>
              <a:tr h="112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udent Group</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 Exam</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rade of 3,4,5</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 Exam Grade of 1,2</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ok AP Course but not exam</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5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frican America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8%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6%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panic</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8%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0%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it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3%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0%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5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w-inco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6%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7%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t low-inco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4%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3%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9%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 Case from Arkansas</a:t>
            </a:r>
            <a:endParaRPr b="0" lang="en-US" sz="36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6" name="Picture 4" descr="20060411_111_284x218"/>
          <p:cNvPicPr/>
          <p:nvPr/>
        </p:nvPicPr>
        <p:blipFill>
          <a:blip r:embed="rId1"/>
          <a:stretch/>
        </p:blipFill>
        <p:spPr>
          <a:xfrm>
            <a:off x="2057400" y="1447920"/>
            <a:ext cx="670572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08:09Z</dcterms:created>
  <dc:creator>Winthrop</dc:creator>
  <dc:description/>
  <dc:language>en-US</dc:language>
  <cp:lastModifiedBy>User</cp:lastModifiedBy>
  <dcterms:modified xsi:type="dcterms:W3CDTF">2012-08-22T18:27:30Z</dcterms:modified>
  <cp:revision>44</cp:revision>
  <dc:subject/>
  <dc:title>Getting the Rigor in Place</dc:title>
</cp:coreProperties>
</file>